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CF5-CADB-456D-AF2B-219F0161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A4C-CB4C-40DC-8AE9-60BB22C1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A90-392F-4D10-86DC-6CF8F086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23F-03E6-4925-9EFB-1973D8A3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E59E-9B57-48B0-8282-784161AE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2969-6796-4866-ADD1-9F85425A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5C32-EE98-4E5B-A4C3-5D576A34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8871-C99E-47D0-812C-E38EF3E0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5CC1-F969-4FE4-89D0-91CA0490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A8D5-03ED-4CFC-8486-3C4E9526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4B97-5964-4608-8A5A-69A72858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DF35-B395-4506-A3BE-327894A8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EDAD-0C09-453B-A228-CB3FE01A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1651-3408-4B89-A89A-050E38E5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BCE1-FD12-45C7-A9CE-CE8206C6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56D1-0B30-4402-9D0E-5D155D8B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8156-CC0F-4648-ABD7-46B3B8FF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343-8048-436B-8F97-578C7538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B03-C72E-4B4E-9939-EEF66F41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EBE-E72B-41BC-B679-1C5EA247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F51-8E88-44DB-B4AC-7AA70905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0D9-3909-4A1B-9780-409A7D0F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48F-FBB0-4FE6-9537-B8DCCF47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D6A-BB70-47F1-B95F-A8132217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EA97-63E6-4EC9-B3E3-F3229ABB28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933F-D408-4F6D-86AF-3F680CBFE9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parknotes.com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mericanliterature.com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Speech%20to%20Text-%20Voice%20Recognition%20Instructions(2).doc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Reconstruction%20Test.docm" TargetMode="External"/><Relationship Id="rId3" Type="http://schemas.openxmlformats.org/officeDocument/2006/relationships/hyperlink" Target="http://www.americanliterature.com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ytecool.com/voices.htm" TargetMode="External"/><Relationship Id="rId3" Type="http://schemas.openxmlformats.org/officeDocument/2006/relationships/hyperlink" Target="http://www.naturalreaders.com/" TargetMode="External"/><Relationship Id="rId4" Type="http://schemas.openxmlformats.org/officeDocument/2006/relationships/hyperlink" Target="http://cepstral.com/demos/" TargetMode="External"/><Relationship Id="rId5" Type="http://schemas.openxmlformats.org/officeDocument/2006/relationships/hyperlink" Target="http://www.naturalvoices.att.com/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Instructions%20for%20Using%20Microsoft%20Excel%20to%20Read%20Text.docm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Microsoft Word in the Classroo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6606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adability Leve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parknote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99"/>
                </a:solidFill>
                <a:latin typeface="Arial Black"/>
              </a:rPr>
              <a:t>Animal Farm 1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99"/>
                </a:solidFill>
                <a:latin typeface="Arial Black"/>
              </a:rPr>
              <a:t>Animal Farm 10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99"/>
                </a:solidFill>
                <a:latin typeface="Arial Black"/>
              </a:rPr>
              <a:t>Animal Farm 9.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99"/>
                </a:solidFill>
                <a:latin typeface="Arial Black"/>
              </a:rPr>
              <a:t>Animal Farm 7.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termining Read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ditional Examp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americanliterature.com/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99"/>
                </a:solidFill>
                <a:latin typeface="Arial Black"/>
              </a:rPr>
              <a:t>LITTLE RED RIDING HOOD 6.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xtbo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99"/>
                </a:solidFill>
                <a:latin typeface="Verdana"/>
              </a:rPr>
              <a:t>Chapter 20-2 8.7 reading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99"/>
                </a:solidFill>
                <a:latin typeface="Verdana"/>
              </a:rPr>
              <a:t>Chapter 20-2 7.1 reading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99"/>
                </a:solidFill>
                <a:latin typeface="Arial Black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sing Readability to Increase Student Wri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99"/>
                </a:solidFill>
                <a:latin typeface="Arial Black"/>
              </a:rPr>
              <a:t>A DAY IN THE LIFE-JACK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81280" y="3200400"/>
            <a:ext cx="2173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58248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  <a:ea typeface="Times New Roman"/>
              </a:rPr>
              <a:t>How Can I Use Word in My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3520" y="2209680"/>
          <a:ext cx="8367480" cy="4218120"/>
        </p:xfrm>
        <a:graphic>
          <a:graphicData uri="http://schemas.openxmlformats.org/drawingml/2006/table">
            <a:tbl>
              <a:tblPr/>
              <a:tblGrid>
                <a:gridCol w="2789280"/>
                <a:gridCol w="2788920"/>
                <a:gridCol w="2789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ll MT"/>
                          <a:ea typeface="Times New Roman"/>
                        </a:rPr>
                        <a:t>Text to Spee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ll MT"/>
                          <a:ea typeface="Times New Roman"/>
                        </a:rPr>
                        <a:t>Text to 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ll MT"/>
                        </a:rPr>
                        <a:t>Read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83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0" y="420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04240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y it all out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signment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te a differentiated reading assignment for your cla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bjective for the lesson should focus on comprehension of tex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fferentiate for 3 reading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n grad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1-2 grade levels below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1-2 grade levels abov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lan should include all three uses for WORD (speech to text, text to speech, readability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ifferentiating” :  Sounds great, but …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y differentiat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/do you differentiate in the classroom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resources can/do you use to meet the needs of each student in the classroom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difficult is this to d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much time does it tak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ech to Text: Voice Recog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s?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udents with reading/spelling disab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udents with poor fine motor coordin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rease speaking fluency in students with poor spe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ech to Text: Voice Recog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4840" y="1752480"/>
            <a:ext cx="8543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y it out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Arial Black"/>
                <a:hlinkClick r:id="rId2"/>
              </a:rPr>
              <a:t>Speech to Text-Voice Recognitio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ther Us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xt to Speech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ses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st taking modific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fferentiating reading lev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stening comprehension pract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ividual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xt to Speec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1520" y="1752480"/>
            <a:ext cx="8391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monstratio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ing Exc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 Black"/>
                <a:hlinkClick r:id="rId2"/>
              </a:rPr>
              <a:t>Reconstruction Te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americanliterature.com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ing Microsoft 200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xt to Speech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bytecool.com/voices.ht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ee and Fee downloadable voices (voices for a fee are higher qualit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naturalreaders.com/#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cepstral.com/demos/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naturalvoices.att.com/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xt to Speec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y it out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Arial Black"/>
                <a:hlinkClick r:id="rId2"/>
              </a:rPr>
              <a:t>Instructions for Using Microsoft Excel to read tex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Uses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adability Leve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ify tests/tex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fferentiate reading instruction for different reading levels while maintaining cont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rease writing skill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: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Bell MT"/>
              </a:rPr>
              <a:t>Instructions for Determining Readability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4:42:53Z</dcterms:created>
  <dc:creator>Jenn</dc:creator>
  <dc:description/>
  <dc:language>en-US</dc:language>
  <cp:lastModifiedBy>User</cp:lastModifiedBy>
  <dcterms:modified xsi:type="dcterms:W3CDTF">2009-01-23T14:42:53Z</dcterms:modified>
  <cp:revision>9</cp:revision>
  <dc:subject/>
  <dc:title>Using Microsoft Word in the Classroom</dc:title>
</cp:coreProperties>
</file>